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A79-BC72-4472-BDD6-4B30DCA8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1EB-5712-44DA-802B-99AC8855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2CB-A6B0-4874-9B15-EF97DA7D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209-B553-4150-99BE-E7312CDE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E9C-9284-4ACB-B8AF-91463D6F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521-6391-4AD7-A8CF-9E4CC88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5AC-6F28-40F1-8B8C-A036A386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DD9-3BEB-430B-B957-E1ADDE5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018-A496-4BBA-A8B9-C1221022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957-1C9C-4B9C-BD0B-A431D94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AC6-C853-453B-BCA2-D4FB5B8E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930-C79B-4112-8C28-DC170CC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672E-3CA4-40D1-B633-43C40A679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3716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5059440"/>
            <a:ext cx="815364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President Clinton and Vice President Gore, ri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... It's Clinton's face twice, with two different haircu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76720" y="990720"/>
            <a:ext cx="47242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7972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38280" y="6172200"/>
            <a:ext cx="457200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a couple or a skull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69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438280" y="5607000"/>
            <a:ext cx="4267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black dots! :o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77320" cy="472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013040" y="563868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horizontal lines parallel or do they slop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461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828800" y="5486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egs does this elephant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570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432160" y="5972040"/>
            <a:ext cx="39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see the three face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334120" cy="4610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981080" y="55627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e sign say? Are you su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00440" cy="5105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833480" y="5867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the face? Or an Eski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56876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057400" y="5562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cube missing a corner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o you see a small cube in a big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5464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22440" y="563868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blue on the inner left back or the outer left fro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81640" cy="5181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46640" y="579132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 musician or a girl's 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7162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752480" y="6095880"/>
            <a:ext cx="53341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's a face... and the 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393000" y="25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895480" y="380880"/>
            <a:ext cx="5791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72572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826920" y="601992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see an old man's face or two lovers ki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2789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133720" y="5257800"/>
            <a:ext cx="4952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y're both the sam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981080" y="990720"/>
            <a:ext cx="53341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eft center circle bigg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819520" y="380880"/>
            <a:ext cx="419076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 spiral, right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5880240"/>
            <a:ext cx="723888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these are a bunch of independent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6846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380880"/>
            <a:ext cx="70102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aring at the black dot. After a whi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y haze around it will appear to shrink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40200" cy="51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895480" y="380880"/>
            <a:ext cx="54864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dog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60352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14400" y="380880"/>
            <a:ext cx="82296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e at the black lightbulb for at least 30 sec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immediately stare at a white area on the scr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t a sheet of paper. You should see a glowing light bulb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235600" y="120600"/>
            <a:ext cx="43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lors do you se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371600" y="5638680"/>
            <a:ext cx="68580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nly 3 colors: White, green, and pin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em to be two different shades of pink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is only one pink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7920" y="165240"/>
            <a:ext cx="6933960" cy="6535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14:47Z</dcterms:created>
  <dc:creator>Carolyn Baker</dc:creator>
  <dc:description/>
  <dc:language>en-US</dc:language>
  <cp:lastModifiedBy>Asus</cp:lastModifiedBy>
  <dcterms:modified xsi:type="dcterms:W3CDTF">2018-03-09T15:37:47Z</dcterms:modified>
  <cp:revision>18</cp:revision>
  <dc:subject/>
  <dc:title>Optical Illusions</dc:title>
</cp:coreProperties>
</file>